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1DE-5950-468F-ADF2-D3105A5F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090-F13F-4D75-8AEF-C4071E60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A47-DAE1-4DE3-884B-479F122B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A8E-C9C4-4A3D-B69F-6108EF0D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BCE-E106-4C97-83D8-64D0E6E3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BD0-37C7-43CC-924A-0E1C72B5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AF3E-194D-4C71-826E-C5FAB0D5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A59-9ADC-4EA0-BB58-BEDB2DED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36F-584E-433D-8C2D-89BA30E4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224-6AA7-4C07-B75D-CB52BC14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BED-6F8B-4284-BD29-25E3B90A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5E2D-D77A-4F82-88DA-234814C2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F16F-96DA-417A-8A4A-57E58776C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4495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ro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Kin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r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ron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ron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bout 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xpec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on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opposite of w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kinds of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ron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u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Verba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r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haracter says one thing but means the oppo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b2b2b2"/>
                </a:solidFill>
                <a:latin typeface="Arial"/>
              </a:rPr>
              <a:t>sarcas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be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b2b2b2"/>
                </a:solidFill>
                <a:latin typeface="Arial"/>
              </a:rPr>
              <a:t>sarcast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locker room smells really g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wesome!  Another homework pack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ramatic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r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he reader understands more about the events of a story than a charac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 know something that a character doe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’s parents are proud of the “A” he got on the test, but we know he ch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 writes a love poem to Judy but we know that Judy loves Devi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7777"/>
                </a:solidFill>
                <a:latin typeface="Arial"/>
              </a:rPr>
              <a:t>Situationa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r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what actually happens is the opposite of what is exp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thing about the situation is completely unexp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Sedgwick’s last words were, “They couldn’t hit an elephant at this dista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 Gates uses an Apple comp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hing that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ron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unexp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unexpected by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ac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’s </a:t>
            </a:r>
            <a:r>
              <a:rPr b="1" lang="en-US" sz="3200" spc="-1" strike="noStrike">
                <a:solidFill>
                  <a:srgbClr val="777777"/>
                </a:solidFill>
                <a:latin typeface="Arial"/>
              </a:rPr>
              <a:t>drama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unexp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’s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tua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’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rca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’s </a:t>
            </a: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verb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1T16:12:34Z</dcterms:created>
  <dc:creator>Mr. Morton</dc:creator>
  <dc:description/>
  <dc:language>en-US</dc:language>
  <cp:lastModifiedBy>MASD</cp:lastModifiedBy>
  <dcterms:modified xsi:type="dcterms:W3CDTF">2012-01-11T13:04:57Z</dcterms:modified>
  <cp:revision>5</cp:revision>
  <dc:subject/>
  <dc:title>irony lesson</dc:title>
</cp:coreProperties>
</file>